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195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23148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etical Fou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1391040" y="182880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18"/>
          <p:cNvGraphicFramePr/>
          <p:nvPr/>
        </p:nvGraphicFramePr>
        <p:xfrm>
          <a:off x="457200" y="762120"/>
          <a:ext cx="144792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14479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Group 22"/>
          <p:cNvGrpSpPr/>
          <p:nvPr/>
        </p:nvGrpSpPr>
        <p:grpSpPr>
          <a:xfrm>
            <a:off x="1981080" y="2514600"/>
            <a:ext cx="6553080" cy="75960"/>
            <a:chOff x="1981080" y="2514600"/>
            <a:chExt cx="6553080" cy="75960"/>
          </a:xfrm>
        </p:grpSpPr>
        <p:sp>
          <p:nvSpPr>
            <p:cNvPr id="46" name="Line 20"/>
            <p:cNvSpPr/>
            <p:nvPr/>
          </p:nvSpPr>
          <p:spPr>
            <a:xfrm>
              <a:off x="1981080" y="25146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1"/>
            <p:cNvSpPr/>
            <p:nvPr/>
          </p:nvSpPr>
          <p:spPr>
            <a:xfrm>
              <a:off x="1981080" y="25905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ehavio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behavior is a response to external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learn (acquire behaviors, skills and knowledge) in response to rewards and pun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a passive response to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0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gnitiv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on learning as a mental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nters through senses, is mentally manipulated, stored and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explained in terms of how one th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learning is more complex than simple behavioristic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16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tructiv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constructed as a result of the learning process and is unique to the person who construct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appens when knowledge is assimilated or accomodated (Pia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y be constructed best in a soci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2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gnitive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ner in which one thinks and interprets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ers-Briggs helps to determine cognitive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cognitive styles helps teachers create a supportive instructio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30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ea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under which one learns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s to individual sensory dom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ory learners learn best b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ers learn best by se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sthetic/Tactile learners learn best by doing and tou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3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ent capabilities to learn an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ford-Binet IQ tests emphasize verbal and mathematic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ard Gardner’s Multiple Intelligence theory suggests everyone has some degree of each of nine types of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44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ple 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-Lingu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-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-Spa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-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Group 7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52" name="Line 8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is a systematic planned sequence of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is a process that communication of ideas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takes into account individual and environmental factors related to the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ed teachers are aware of learning theories and learner characteristics that impact the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5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a component of the teaching and lear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technology includes any resource used to facilitat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view of technology has been an evolution consistent with the evolution of learning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66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 Historica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o-visual movement began in the early 1900s with the advent of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, radio, sound recordings were added in the 1920s-1930s to support the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sion drove audio-visuals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7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is Educational Technolog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technology is any technology used by educators in support of the teaching and lear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s study educational technology in order to have a sound foundation in the technologies needed to t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S-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Educational Technology Standards for Tea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andards articulate what teachers and students should know abou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5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 Historica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60s A-V was expanded to a broader systems 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1970s educational technology was redefined to include all types of learning resources a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advent of the computer in the 1980s, educational technology entered the Digit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80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s view of educational technology embraces all media and systems that support the teaching and lear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cher must decide how to best utilize technology in support of his or he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8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al Technology &amp;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technologies are the tools teachers use to create an effective instruction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ctional event includes all activities that promote the transfer of knowledge and/or skills in the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environment includes the physical and non-physical aspects of the area in which the instructional event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380880" y="38088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1523880" y="1523880"/>
            <a:ext cx="6553080" cy="75960"/>
            <a:chOff x="1523880" y="1523880"/>
            <a:chExt cx="6553080" cy="75960"/>
          </a:xfrm>
        </p:grpSpPr>
        <p:sp>
          <p:nvSpPr>
            <p:cNvPr id="60" name="Line 7"/>
            <p:cNvSpPr/>
            <p:nvPr/>
          </p:nvSpPr>
          <p:spPr>
            <a:xfrm>
              <a:off x="1523880" y="152388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1523880" y="159984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theories explain how people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heory offers a different perspective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es may be contrad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cher must personally decide which theory he or she agree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6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arning as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transferred by sending a message from sender to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then returns feedback to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receiv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essages are impacted by variables that may alter the pure meaning of the intended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74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572000" cy="43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5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Group 7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81" name="Line 8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actor in the environment that may cause a learner to lose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conditions can block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, movement, temperature may all interfere with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457200" y="38088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88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sych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individual differences that define and impact reception of communicat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state may interfere with message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 (preferred sensory gateways) may interfere with trans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9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sonal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values, heritage, and belief system that may alter intend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clude attitudes, cultural differences, and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are present in both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02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AB_Buckrie</cp:lastModifiedBy>
  <dcterms:modified xsi:type="dcterms:W3CDTF">2017-02-02T08:28:39Z</dcterms:modified>
  <cp:revision>9</cp:revision>
  <dc:subject/>
  <dc:title>Theoretical Foundations</dc:title>
</cp:coreProperties>
</file>